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5FB-AEA6-451F-A4D1-5441C3EC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B9E-FD9E-4E15-A46D-E9C4E36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951-238F-4C20-9750-3679C009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5D9-DD21-4AD0-9A9A-A7A726F8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6CF8-6079-464A-BD7C-F2A998AC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07DD-89D3-41A0-A2C0-2CF9CFCE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049-B2DF-41C2-9818-F7A9CB98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7C2-2733-4E02-A53A-FD70DDA3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4DE-1F0A-40A0-B818-8D163125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A339-1FE0-4A78-B6FB-A58FCD1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E8A-EC05-4D21-985E-12DE26B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6DB-B3E3-484C-9A95-0EF6D8D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F37-8E39-45D8-9F16-33CB50D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72FF-5DE1-4978-8262-4AAFA2C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BC2-934C-4942-B4A6-E8160BA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3FD-666A-4C02-BC92-23D0DC3A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5BD-12F6-4043-BEE2-0F18BA4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412-5987-4EB3-AB1B-89F585B5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9D4-B9A0-48B0-AFAA-E02237D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77C-5EA8-4834-AEDB-2378B006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4A5-4502-43CE-ABBB-0BB2B45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D64-D905-47EE-A658-315C3A97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AE6-3E13-43ED-BC50-7EC25C9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8C3-B2FD-4F3F-B781-D79C868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10F1-7F81-40C8-92CA-0F435F582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AB8-D3CE-4F73-AA17-0AD47870F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Comic Sans MS"/>
              </a:rPr>
              <a:t>Obj: to recognise human qualities and gif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Comic Sans MS"/>
              </a:rPr>
              <a:t>Key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ere some of the good qualities that the fairies gave as gif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 you think the other fairies gave the ba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ould you want to give the bab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Talk with your partner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think of another story in which the main character possesses or is given special qualities of mind and hear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re anyone alive today who you think possesses special qualities of mind and heart? Who, and what are the qua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Comic Sans MS"/>
              </a:rPr>
              <a:t>Myself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you were younger, you may have heard the story of the Sleeping Beauty or seen the film or carto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109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ifts for the ba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ce upon a time, t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s a king and queen 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nged to have a bab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, at last, they had a baby daughter, they thought a good fairy had been looking afte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589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ll invite them all to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ristening,” said the K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h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fter the feast, the twelve fairies gathered round the cradle of the baby princess. Each gave the baby a gi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68360" y="4305240"/>
            <a:ext cx="3613320" cy="2552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052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have beauty of face,” said the fir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have beauty of heart and be gentle and loving,” said the n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be wise,” said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gift to you is generosity,” said the next.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by one, they promised the little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ncess all the good qualities tha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uld make her loved and l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3591000"/>
            <a:ext cx="46227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st as the eleventh fairy stepped away from the cradle, a furious shout came from the door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suppose you thought I was to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ld and useless to invite,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oice shou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ryone looked round to s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very old fairy walking slowly towards the cradle. Everyone had forgott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 and she had not been inv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91240" y="2060640"/>
            <a:ext cx="25527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the princess is fifteen years old,” she said, “she shall prick her finger on a spindle and fall down dea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looked around at the stunned guests and hobbled away from the pa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g and Queen were horr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had just forgotten her,” the King said, “Whatever shall we do now?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39120" y="3141720"/>
            <a:ext cx="1604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n’t worry,” said the twelfth fai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can’t undo the bad spell, but I can protect the princess. She will prick her finger on a spindle, but she will not die. She will just fall asleep for a hundred years. Someone will come to se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65964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g and Queen were grateful, but they were taking no chances. They ordered that all spindles in the land were to be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637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8:17:29Z</dcterms:created>
  <dc:creator>Manager</dc:creator>
  <dc:description/>
  <dc:language>en-US</dc:language>
  <cp:lastModifiedBy>Manager</cp:lastModifiedBy>
  <dcterms:modified xsi:type="dcterms:W3CDTF">2008-08-04T09:34:48Z</dcterms:modified>
  <cp:revision>7</cp:revision>
  <dc:subject/>
  <dc:title>Obj: to recognise human qualities and gifts</dc:title>
</cp:coreProperties>
</file>